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3.wmf" ContentType="image/x-wmf"/>
  <Override PartName="/ppt/media/image5.png" ContentType="image/png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36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12.png" ContentType="image/png"/>
  <Override PartName="/ppt/media/image44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5057CA-EF9B-415E-8ACF-7AFB4943E48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50760" y="71424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158-8C8A-437A-8126-A1B70F13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DA83-BCE1-4F03-A2A9-562121AD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D39-58C9-4116-95F5-D4154833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5B75-6520-4FAA-9808-8420D25C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2A2A-3089-49F3-8C07-9DCE21D6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748A-01FC-4270-B1C5-240C6E01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AC34-E7D7-4607-B7F6-68DEECD8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70B4-4E3F-4F87-B99D-756953CF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8BE6-CA43-445A-8114-27C8E6DE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2C24-76AF-43CC-9D36-6EBC0BFE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104B-0BD2-40F6-9FF3-23AB3F52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FD5-D142-4333-A06D-3A91F2F1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1E30-3B81-4BDE-B565-128C7336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F89D-B275-43C3-89F3-18D590BB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6D18-2811-45F1-B21B-922B2441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7B6B-21DE-4C6A-8495-24040A04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7C4E-FC14-4268-BC4B-A9E35126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F7804-95B9-4ED4-8186-CDAE211A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F3EEB-A928-4E9F-999F-20A2BE74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F71CB-DF06-446E-9549-88A899A8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BD4E5-4F46-426C-8535-704841AE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45765-A5F6-4B83-B31D-4BCFF5B7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7C87-E776-4BD7-BBEE-26694074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A522B-EDFE-43BE-A9E8-22504BA8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66A39-B9F1-4C5A-8F39-A4D4D136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BEA8C-3F38-404D-9000-827B70E7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3AF9E-CCD9-407E-9F7A-014E53DF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F909F-3172-4402-8AB1-3C4A4D22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8030A-D400-4AA7-B297-9F6602E7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B3F21-0CDF-4583-A336-960C55BC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08ECD-04C6-4A66-8B7F-9950CC21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A2697-A30E-49DA-80B5-722CD035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8BEDF-8793-4C3B-BD4B-D106DECE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DB6F-E371-4F5F-9408-2CC8BA39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AD340-2ED5-483C-BDED-492B06A4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5F12B-EF34-491F-B590-E31F3B6E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C24D0-A70B-435E-90D8-21B2D837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F9F08-0C57-4F0E-BBE6-DFF235F5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C25B4-D05E-4655-B04C-C4BFFA4E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AD08B-82D4-4A2F-BFB6-B965D2D8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7908B-31CC-4A17-A039-4780B742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4DDCD-9CDD-4551-9A72-6B66559B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C4BD9-2625-4D64-BB19-273FA92E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5303A-2D9B-42B0-BF6F-12038C21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BFBB-DC25-48C1-9D8A-1474B4C3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3014E-E875-4C9B-B64B-574B17B4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53E05-F63C-4AEE-8EFB-C17CA36A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AD974-01D5-48D3-AC5D-32891D38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2A2D7-1928-48CB-80B6-D77AE12A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10454-D20C-4048-88F7-FBB8A3CC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15BD7-1AF5-42B3-9F01-B9C8C3F9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F9E04-33E6-4981-8719-28580855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79554-C579-4269-A378-BF3777A1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F72D9-5FE5-4EFC-B55F-3C3276B9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56796-0B4F-44B1-B854-C04EDC40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6F82-F6F4-49FE-B4D7-60664F8E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CDEE3-53D9-455A-A49F-8714DB4F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DEF-5BE2-4DBF-800A-D408EBD3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3E3-264D-4CE4-9C6E-3DA63E68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DB8F-B2D5-4E7F-8AB6-DA4F4632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605C-E5F8-4BE5-90DD-360035592AC9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A8D5-BDA9-41FE-B1BC-3D64C397719C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DBDE-0349-4B12-96AC-039AD0CF15E1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A53F-D619-401C-B3A4-D0631B8C5AE4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FE18-4ABE-44CF-9276-DCB53F3EA2D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1.05.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9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7692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E67A-D11C-4962-9FAC-77CE8401BFB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4589-9D4E-42DC-A5F6-7E3B57DA12E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0" descr=""/>
          <p:cNvPicPr/>
          <p:nvPr/>
        </p:nvPicPr>
        <p:blipFill>
          <a:blip r:embed="rId1"/>
          <a:stretch/>
        </p:blipFill>
        <p:spPr>
          <a:xfrm>
            <a:off x="0" y="836640"/>
            <a:ext cx="8817120" cy="5695920"/>
          </a:xfrm>
          <a:prstGeom prst="rect">
            <a:avLst/>
          </a:prstGeom>
          <a:ln w="0">
            <a:noFill/>
          </a:ln>
        </p:spPr>
      </p:pic>
      <p:sp>
        <p:nvSpPr>
          <p:cNvPr id="27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2187-9F45-4F65-A9FD-37A8851400C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2" descr=""/>
          <p:cNvPicPr/>
          <p:nvPr/>
        </p:nvPicPr>
        <p:blipFill>
          <a:blip r:embed="rId1"/>
          <a:stretch/>
        </p:blipFill>
        <p:spPr>
          <a:xfrm>
            <a:off x="0" y="907920"/>
            <a:ext cx="8848800" cy="5334120"/>
          </a:xfrm>
          <a:prstGeom prst="rect">
            <a:avLst/>
          </a:prstGeom>
          <a:ln w="0">
            <a:noFill/>
          </a:ln>
        </p:spPr>
      </p:pic>
      <p:sp>
        <p:nvSpPr>
          <p:cNvPr id="27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2674-4663-4E3E-BF9D-43B8FDCBEBF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D7D3-0FE1-47EF-BD14-0835E065043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7CAA-AD47-4D95-8078-6252FE84289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8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8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429E-5D4A-49F9-BD17-C725DF44B4C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ABB0-7C93-4AE5-8249-C5F683E43F2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8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69040"/>
          </a:xfrm>
          <a:prstGeom prst="rect">
            <a:avLst/>
          </a:prstGeom>
          <a:ln w="0">
            <a:noFill/>
          </a:ln>
        </p:spPr>
      </p:pic>
      <p:sp>
        <p:nvSpPr>
          <p:cNvPr id="28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A7CD-985F-40A6-AD01-0A610A540D2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F7AF-1E50-4EDF-B216-0694B9254BE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9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28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FDA1-25FA-45F7-A1D0-C6B93917D0B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72F3-789E-450C-920C-8ED94B8C5B2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" descr=""/>
          <p:cNvPicPr/>
          <p:nvPr/>
        </p:nvPicPr>
        <p:blipFill>
          <a:blip r:embed="rId1"/>
          <a:stretch/>
        </p:blipFill>
        <p:spPr>
          <a:xfrm>
            <a:off x="295200" y="620640"/>
            <a:ext cx="8848800" cy="5705640"/>
          </a:xfrm>
          <a:prstGeom prst="rect">
            <a:avLst/>
          </a:prstGeom>
          <a:ln w="0">
            <a:noFill/>
          </a:ln>
        </p:spPr>
      </p:pic>
      <p:sp>
        <p:nvSpPr>
          <p:cNvPr id="29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72D1-5CD7-462E-9AA5-E253594AFA3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1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918040"/>
          </a:xfrm>
          <a:prstGeom prst="rect">
            <a:avLst/>
          </a:prstGeom>
          <a:ln w="0">
            <a:noFill/>
          </a:ln>
        </p:spPr>
      </p:pic>
      <p:sp>
        <p:nvSpPr>
          <p:cNvPr id="29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FD7D-98E3-46D5-91E7-5036B3BEFDC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1525-78BF-4D94-AFF6-2FFC82585B0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810040"/>
          </a:xfrm>
          <a:prstGeom prst="rect">
            <a:avLst/>
          </a:prstGeom>
          <a:ln w="0">
            <a:noFill/>
          </a:ln>
        </p:spPr>
      </p:pic>
      <p:sp>
        <p:nvSpPr>
          <p:cNvPr id="29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8AF2-378D-4622-9571-AA47E5A018B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8FC7-7D07-4915-B3C7-68A8E01F49A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"/>
          <p:cNvPicPr/>
          <p:nvPr/>
        </p:nvPicPr>
        <p:blipFill>
          <a:blip r:embed="rId3"/>
          <a:stretch/>
        </p:blipFill>
        <p:spPr>
          <a:xfrm>
            <a:off x="2411280" y="5445000"/>
            <a:ext cx="4662720" cy="797040"/>
          </a:xfrm>
          <a:prstGeom prst="rect">
            <a:avLst/>
          </a:prstGeom>
          <a:ln w="0">
            <a:noFill/>
          </a:ln>
        </p:spPr>
      </p:pic>
      <p:sp>
        <p:nvSpPr>
          <p:cNvPr id="2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BBAE-BEFC-4727-B29D-878ADECB9D1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2" descr=""/>
          <p:cNvPicPr/>
          <p:nvPr/>
        </p:nvPicPr>
        <p:blipFill>
          <a:blip r:embed="rId1"/>
          <a:stretch/>
        </p:blipFill>
        <p:spPr>
          <a:xfrm>
            <a:off x="147600" y="57960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30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5D77-DE2A-4E8E-9587-6E4BB7CD0B4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3BB9-7F99-405B-A042-553A4A19323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9F48-326D-4153-8C7B-29B1CCC741C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07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B741-0890-4DCE-B538-089BA984C71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5694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23E6-3287-4EE7-875B-726CBC726BC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"/>
          <p:cNvPicPr/>
          <p:nvPr/>
        </p:nvPicPr>
        <p:blipFill>
          <a:blip r:embed="rId1"/>
          <a:stretch/>
        </p:blipFill>
        <p:spPr>
          <a:xfrm>
            <a:off x="147600" y="736560"/>
            <a:ext cx="884880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5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30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CFDE-7659-4998-87C7-390B93495BD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96000" cy="5597640"/>
          </a:xfrm>
          <a:prstGeom prst="rect">
            <a:avLst/>
          </a:prstGeom>
          <a:ln w="0">
            <a:noFill/>
          </a:ln>
        </p:spPr>
      </p:pic>
      <p:sp>
        <p:nvSpPr>
          <p:cNvPr id="31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2554-1BD7-4997-B03A-A5DA2F4BA9E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DBD5-F0E4-427B-B3D1-147DA65D545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3" descr=""/>
          <p:cNvPicPr/>
          <p:nvPr/>
        </p:nvPicPr>
        <p:blipFill>
          <a:blip r:embed="rId1"/>
          <a:stretch/>
        </p:blipFill>
        <p:spPr>
          <a:xfrm>
            <a:off x="0" y="620640"/>
            <a:ext cx="8848800" cy="5629320"/>
          </a:xfrm>
          <a:prstGeom prst="rect">
            <a:avLst/>
          </a:prstGeom>
          <a:ln w="0">
            <a:noFill/>
          </a:ln>
        </p:spPr>
      </p:pic>
      <p:sp>
        <p:nvSpPr>
          <p:cNvPr id="31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5818-10B8-482E-82E7-4343B220466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1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88360" cy="6105600"/>
          </a:xfrm>
          <a:prstGeom prst="rect">
            <a:avLst/>
          </a:prstGeom>
          <a:ln w="0">
            <a:noFill/>
          </a:ln>
        </p:spPr>
      </p:pic>
      <p:sp>
        <p:nvSpPr>
          <p:cNvPr id="31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F93A-4BF7-43E4-AC40-A6BBB232539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79F4-80DD-4B5C-9082-2A895C83205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35344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56CD-DDDD-4576-89B9-14E4AA918BA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A344-E9AE-4F2A-B47C-891802F5DB2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20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5484960" y="21096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4968-0237-4585-8A44-56CCBB50E53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B18C-90AD-4BA3-A8F1-68FE83FFB58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9" descr=""/>
          <p:cNvPicPr/>
          <p:nvPr/>
        </p:nvPicPr>
        <p:blipFill>
          <a:blip r:embed="rId1"/>
          <a:stretch/>
        </p:blipFill>
        <p:spPr>
          <a:xfrm>
            <a:off x="0" y="765000"/>
            <a:ext cx="8848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4BD5-4B79-4199-88EE-15534555115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9" descr=""/>
          <p:cNvPicPr/>
          <p:nvPr/>
        </p:nvPicPr>
        <p:blipFill>
          <a:blip r:embed="rId1"/>
          <a:stretch/>
        </p:blipFill>
        <p:spPr>
          <a:xfrm>
            <a:off x="147600" y="727200"/>
            <a:ext cx="8848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2" descr=""/>
          <p:cNvPicPr/>
          <p:nvPr/>
        </p:nvPicPr>
        <p:blipFill>
          <a:blip r:embed="rId1"/>
          <a:stretch/>
        </p:blipFill>
        <p:spPr>
          <a:xfrm>
            <a:off x="195120" y="617400"/>
            <a:ext cx="8753760" cy="5629320"/>
          </a:xfrm>
          <a:prstGeom prst="rect">
            <a:avLst/>
          </a:prstGeom>
          <a:ln w="0">
            <a:noFill/>
          </a:ln>
        </p:spPr>
      </p:pic>
      <p:sp>
        <p:nvSpPr>
          <p:cNvPr id="32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F4E1-477F-40E1-BF39-F7955AD6E13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C917-08B3-4083-943E-008470BC2608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2700360" y="1628640"/>
            <a:ext cx="424800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5FFB-7B54-4541-98D1-CA494CBBBB6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FE91-10FF-4F45-B53A-D275EC11A8C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2"/>
          <a:stretch/>
        </p:blipFill>
        <p:spPr>
          <a:xfrm>
            <a:off x="612720" y="1503360"/>
            <a:ext cx="7916760" cy="3857760"/>
          </a:xfrm>
          <a:prstGeom prst="rect">
            <a:avLst/>
          </a:prstGeom>
          <a:ln w="0">
            <a:noFill/>
          </a:ln>
        </p:spPr>
      </p:pic>
      <p:sp>
        <p:nvSpPr>
          <p:cNvPr id="26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1482-A1B3-4BEC-81A1-321E9C1D9F8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612720" y="2106720"/>
            <a:ext cx="7916760" cy="3051000"/>
          </a:xfrm>
          <a:prstGeom prst="rect">
            <a:avLst/>
          </a:prstGeom>
          <a:ln w="0">
            <a:noFill/>
          </a:ln>
        </p:spPr>
      </p:pic>
      <p:sp>
        <p:nvSpPr>
          <p:cNvPr id="26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2176-33E5-4984-9422-8C403871BE8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A107-EE54-4113-A1B8-E485F6CD4F2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DDEE-BCEA-47D0-97B2-8D9856B7278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147600" y="687240"/>
            <a:ext cx="8848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1DDB-2B10-4C48-8A87-27CE925396B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1"/>
          <a:stretch/>
        </p:blipFill>
        <p:spPr>
          <a:xfrm>
            <a:off x="152280" y="741240"/>
            <a:ext cx="88394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0年死因記者會簡報</cp:keywords>
  <dc:language>en-US</dc:language>
  <cp:lastModifiedBy>ASUS</cp:lastModifiedBy>
  <dcterms:modified xsi:type="dcterms:W3CDTF">2012-05-23T20:01:33Z</dcterms:modified>
  <cp:revision>463</cp:revision>
  <dc:subject>衛生署中英文網站</dc:subject>
  <dc:title>民國100年死因記者會簡報</dc:title>
</cp:coreProperties>
</file>